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0740-3CBF-48C5-B13D-428891DE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C4FB-7AAD-422E-A48D-0D5B8F50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64B-836A-477F-8B68-D05B6481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76A-5CD8-465C-86D2-2EA1743C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D1BC-398B-4A02-8C91-B2504981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C346-8F2D-4D36-835E-4A6C6697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398B-28FE-4DD4-A64B-76F736B0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B1B0-0D3E-4CAC-8BDC-9A2B9045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0443-79AA-460A-9C94-2D9F074D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2BAB-C2C8-4CD7-97F9-0BDAE79E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6FAB-180C-4B93-92AB-167B8984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0EBD-2D35-4EAB-9B44-E8B27C0B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DDCC-E42F-46FE-9115-A5B454B4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DA45-BF2B-4E43-998B-5281CA7B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228E-51F6-48FC-A06F-4D1B1680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90FA-5683-4081-B5F5-A259C724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9FD1-6876-4EEB-AA1D-12B15FC1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B2B81-BB6A-499C-8B3C-FFE47F39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9D5A7-37A5-45D5-AA15-DF96FF88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5E3CE-1C4D-4EE0-B5FA-B9FD7E63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AB387-B0F4-44BB-833C-E511546D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8BB2E-A06D-41A5-8DDC-237A773C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58C5-039F-4703-BA6F-05F2B062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B8CA8-805C-4871-80AB-7DE799B4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2C363-ED43-4102-9D87-4E3BB6A5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F20A0-C93F-4ED3-9F4D-EBE42CD2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56A30-0EDF-457C-8489-3140D2AD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D6E66-3F89-4D04-83B4-3C5A0AC0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B69EC-9B01-4026-BBEB-0B0F014F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BB30D-E4C9-4F67-B334-E5AF065D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4EE70-479A-497D-84F9-BCA4DB84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0AC2C-8DF8-42AB-9A25-DB1A2189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A3042-68B0-46B3-AC49-F5AE8B31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0E4-73A9-47CD-95A9-42D07827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D4105-6D0F-47D4-B6F7-79585EEC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46F99-F802-44AB-979B-78AB2B93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DB908-6325-444B-BA9E-D3C0A3E7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BAC16-ABB7-4C77-9492-BA9199A1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67A16-90DB-48E8-AE60-0FB365F7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F576D-5ADD-483C-B39A-2A30A676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57E63-89C0-4F4F-A70C-08DD67F1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921E1-67F8-4176-B17F-AC054BA8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2EAD0-1F7E-459C-97CE-09BCA6A0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B3574-FB76-443A-AB1C-15D6B490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324-9D91-4CEC-B5B5-D2FB3D31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DEDBF-D014-40F7-8CB6-90821763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C7EB3-60F0-4CB3-B751-C7302369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F6EB8-12FC-49DC-93B6-D209D175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6BEA7-28E4-4921-935C-D8ED03EB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7D2E4-8A4A-4B63-9949-250B889E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2C55D-E8BA-4136-81CD-92BEE301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8558D-2B0A-4778-BBF1-C12A5390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3BAF1-71F1-4443-BF31-BE14EF6E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EF546-88E0-43E0-93C7-452F3D7E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42DB3-6513-4F32-8B47-63BE1514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8E52-F201-4801-816F-0A073B28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A1BCE-0824-4EC8-AA4C-636229DA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EEB57-D7A1-49DE-B698-587F86C1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EA66C-5259-42C0-BA6B-177BAC9E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02F24-BD07-4DCA-8F0F-9F7CDFB8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FF40A-D986-407A-A570-A23FA5E9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15186-3A90-471F-AE29-2547663C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7B29D-54AC-439A-99AE-A93B6FF4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236AA-416B-462B-B9EA-100CB8D4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37B27-45AE-4150-899B-49B31F26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F832A-2BCE-4161-A35B-74CB4351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5B93-DCA4-44E9-80C1-C35604A7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AF779-52F8-49B7-86C3-0AC367F9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3110B-D17E-4505-BFFF-454B1F08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EB90B-E8CB-4F4D-B184-B08D7919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938E2-6289-455D-9CE7-EEA6CFFF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E88F6-3230-4060-838D-C705F245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603FE-057D-4F64-9075-68C7B201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BE300-3EE1-4E6A-80DA-53D38AB7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C00D4-D21C-4CDE-9ED0-82D0A816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824D3-1166-4955-9500-7A6C8C17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5D1F0-88C1-4EF7-8DBB-B2DBB15A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62C5-5751-47AE-B167-D0B94970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E7E27-76B2-4C98-A789-A530AD6E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50B2D-2A37-4F9C-8F6B-E3B8ECA9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6BA1D-101A-41EE-93CB-C2617AE3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C5862-4E2B-47A5-9246-ABE8FC6B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37A0D-491A-4DC2-9FDC-8FE49F18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801A-848F-4C65-91E3-788ED752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8427-3C65-4C0B-A0A1-CBB2152519F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8CF6-3579-44E7-8645-F96246A4112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E7FF-DEF5-44C2-8526-E36A845E260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0EE2-470C-46DF-B08F-B266C9F0818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8963-22F3-421D-9BAE-BEF7FB2FA72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5D8D-165B-481A-B715-4471F038E56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FDCA-FB1E-481A-9DF1-5CDE5573C19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572314"/>
                </a:solidFill>
                <a:latin typeface="Papyrus"/>
              </a:rPr>
              <a:t>Poetry Analysis</a:t>
            </a:r>
            <a:br>
              <a:rPr sz="7500"/>
            </a:br>
            <a:br>
              <a:rPr sz="7500"/>
            </a:br>
            <a:r>
              <a:rPr b="0" lang="en-US" sz="4300" spc="-1" strike="noStrike">
                <a:solidFill>
                  <a:srgbClr val="572314"/>
                </a:solidFill>
                <a:latin typeface="Papyrus"/>
              </a:rPr>
              <a:t>Using the TP-CASTT Metho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6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T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tle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Examine the title again, this time on an interpretive level</a:t>
            </a:r>
            <a:br>
              <a:rPr sz="14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s to ask yourself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y is the title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_____?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does this mea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7: </a:t>
            </a:r>
            <a:r>
              <a:rPr b="1" lang="en-US" sz="3900" spc="-1" strike="noStrike" u="sng">
                <a:solidFill>
                  <a:srgbClr val="572314"/>
                </a:solidFill>
                <a:uFillTx/>
                <a:latin typeface="Perpetua Titling MT"/>
              </a:rPr>
              <a:t>T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eme</a:t>
            </a:r>
            <a:br>
              <a:rPr sz="3200"/>
            </a:br>
            <a:r>
              <a:rPr b="0" i="1" lang="en-US" sz="1400" spc="-1" strike="noStrike">
                <a:solidFill>
                  <a:srgbClr val="572314"/>
                </a:solidFill>
                <a:latin typeface="Papyrus"/>
              </a:rPr>
              <a:t>Goal- Determine what the author is saying and wants me to learn and feel after reading the poem.</a:t>
            </a: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dentify the theme by recognizing the human experience, motivation, or condition suggested by the po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s step, within itself, has a syste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mmarize the plo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st the subject (s) of the poem (moving from literal subjects to abstract concepts such as war, death, discove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 what the poet is saying about each subject.  Write a complete sentence, making a statement and point about the subject (s)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Example of theme explication using the poem </a:t>
            </a:r>
            <a:r>
              <a:rPr b="0" lang="ja-JP" sz="28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Janet Walking</a:t>
            </a:r>
            <a:r>
              <a:rPr b="0" lang="ja-JP" sz="2800" spc="-1" strike="noStrike">
                <a:solidFill>
                  <a:srgbClr val="572314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lot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n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anet Walking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Janet awakens one morning and runs to greet her pet chicken only to discover that a bee had stung and killed the bird. The discovery desolates Janet to such a degree that her father cannot comfort he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ubject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 A child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first experience of death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. loss of a pe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. innocenc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hemes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 Children become aware of the inevitability of death and are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transformed by the knowledg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. The death of innocence is inevitabl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is TP CASTT?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 acronym of steps used to analyze poetry.  The results of TPCASTT can be used to write an ess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TPCASTT process is comprised of 7 steps which should be completed in the order giv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w does TPCASTT work?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TPCASTT method is used to analyze poetry for some reason specified by the analys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analyst wil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ser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pr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1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T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tle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 Attempt to predict what the poem will be about 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	</a:t>
            </a: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onder the title before reading the po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s to ask yourself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predictions can I make about the po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feelings can I connect to the poem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tit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pyrus"/>
              </a:rPr>
              <a:t>Write your response in a complete sente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72314"/>
                </a:solidFill>
                <a:latin typeface="Gill Sans MT"/>
              </a:rPr>
              <a:t>Step 2: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P</a:t>
            </a:r>
            <a:r>
              <a:rPr b="0" lang="en-US" sz="2900" spc="-1" strike="noStrike">
                <a:solidFill>
                  <a:srgbClr val="572314"/>
                </a:solidFill>
                <a:latin typeface="Gill Sans MT"/>
              </a:rPr>
              <a:t>araphrase</a:t>
            </a:r>
            <a:br>
              <a:rPr sz="29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 Translate the poem, line by line, into your own words.</a:t>
            </a:r>
            <a:br>
              <a:rPr sz="14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aphrase the literary meaning/plot of the poem.  A true understanding of the poem must evolve from comprehension or what’s going on in the po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3: Connotation</a:t>
            </a:r>
            <a:br>
              <a:rPr sz="3200"/>
            </a:br>
            <a:r>
              <a:rPr b="0" lang="en-US" sz="1600" spc="-1" strike="noStrike">
                <a:solidFill>
                  <a:srgbClr val="572314"/>
                </a:solidFill>
                <a:latin typeface="Papyrus"/>
              </a:rPr>
              <a:t>Goal- Contemplate the poem for meaning beyond the literal meaning.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08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poetry, connotation indicates that analyst should examine any and all poetic devices, focusing on how such devices contribute to the meaning, the effect, or both of a poem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ider imagery, figurative language, symbolism, point of view, and other poetic deciv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will link these considerations to the overall meaning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4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A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titude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 Observe both the speaker</a:t>
            </a:r>
            <a:r>
              <a:rPr b="0" lang="ja-JP" sz="1400" spc="-1" strike="noStrike">
                <a:solidFill>
                  <a:srgbClr val="572314"/>
                </a:solidFill>
                <a:latin typeface="Papyrus"/>
              </a:rPr>
              <a:t>’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s and the poet</a:t>
            </a:r>
            <a:r>
              <a:rPr b="0" lang="ja-JP" sz="1400" spc="-1" strike="noStrike">
                <a:solidFill>
                  <a:srgbClr val="572314"/>
                </a:solidFill>
                <a:latin typeface="Papyrus"/>
              </a:rPr>
              <a:t>’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s attitude</a:t>
            </a:r>
            <a:br>
              <a:rPr sz="32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0880" y="19047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ving examined the poem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devices and clues closely, now explore the multiple attitudes that may be present in the po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e you will describe the tone of the author and/or speaker.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Recall how this is done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5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S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ifts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Note shifts in the speaker</a:t>
            </a:r>
            <a:r>
              <a:rPr b="0" lang="ja-JP" sz="1400" spc="-1" strike="noStrike">
                <a:solidFill>
                  <a:srgbClr val="572314"/>
                </a:solidFill>
                <a:latin typeface="Papyrus"/>
              </a:rPr>
              <a:t>’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s attitudes or emotions.</a:t>
            </a:r>
            <a:br>
              <a:rPr sz="14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arely does a poet begin and end the poetic experience in the same place.  Discovery of a poet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understanding of an experience is critical to the understanding of the poem.  Trace the feelings of the speaker from the beginning to the end, paying particular attention to the conclu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Look for the following to find shifts: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. Key words (but, yet, however, although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 Punctuation (dashes, periods, colons, ellipsis) 3. Stanza divis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4. Changes in line or stanza length or both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5. Irony (sometimes irony hides shift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. Effect of structure on mea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7. Changes in sound (rhyme) may indicate changes in mea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8. Changes in diction (slang to formal language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4:49:25Z</dcterms:created>
  <dc:creator>setup</dc:creator>
  <dc:description/>
  <dc:language>en-US</dc:language>
  <cp:lastModifiedBy>Microsoft Office User</cp:lastModifiedBy>
  <dcterms:modified xsi:type="dcterms:W3CDTF">2017-09-24T17:22:50Z</dcterms:modified>
  <cp:revision>5</cp:revision>
  <dc:subject/>
  <dc:title>Poetry Analysis</dc:title>
</cp:coreProperties>
</file>