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D3D-3A95-456F-905B-2DB9331E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BFCC-8C59-4213-B78A-1AA4208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00D-52E3-4E26-8F88-15937C3E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45A-0F04-4BDB-8506-17FC0470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B403-13DC-4B31-8393-59D18E97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E652-8D7C-4635-8A80-4DF37A08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F3F9-07C8-4CA3-A673-65E781FC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8E78-071E-4E23-A3D2-8454F09F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E076-DC3C-40CD-BD40-D16CA0FA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10BF-87B2-465D-9FD9-03D0FAF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1E2D-4144-4FC4-A46B-CB099CBC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F9F-DA70-4DA0-88F6-D14B2466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2D9C-AA33-4CF3-A505-E209566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63C-4927-43B0-B591-25E17E3D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857B-DDB4-415E-AF1C-5DB74D28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D9D2-F464-4005-B336-90B137BA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D66C-5196-4E10-B3E2-2400979D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BAF5-3E26-4A9B-B2A5-35E992B4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0D8E-9658-4AA5-B00C-45E0D54E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03F5-B85F-4A56-808D-D6B62DC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A412-8737-438F-9988-D5D7D593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2516-C079-4FBE-BDF8-B118393A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0A0-5629-4A96-9DAC-FA985795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5B0C-0883-47EF-97E7-2738951D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E9141-851F-4727-A5B7-70AD545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72DBE-652E-4B26-88A3-051ACF93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E83A-48F7-49A4-936F-6FA0E19C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9CEEE-1ED7-4215-AB83-E85DEC06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1674F-7086-4B11-833D-EB46AF9F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5049-684D-4965-B7D4-48569154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1BCB-017C-43CE-BE37-DF7BCC8C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35F7-5890-4B2C-910E-69F94C41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C451-8756-435E-83C9-B14FF848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762-42D3-4EA9-9BFB-AE9C61FB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B1970-F5FF-42B1-8986-F61C5BA9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9E37-76CB-4E48-8233-6D82D06F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82CD6-D8D7-41EF-A9AC-830DD00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5DBCF-F80F-4499-9235-0C36847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4317A-2142-4C16-9129-FFE02826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1B30-0AC6-46C7-899A-40064EA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351DD-BBB8-4CE2-994F-FFC5A8D1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9BC11-78F5-452E-AA2D-2BC2E20D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61E1-2058-42CF-8802-384D08C4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A6F92-CE33-43F6-9EB3-029D58DC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EFD-C568-4BE1-8182-2A32F728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21C41-B63B-47E0-8226-0904E6AF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77491-B37D-4146-95C1-5F5B14D2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C3A3-0A00-4F90-9140-2FF5FD00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4DB52-4DDF-4519-8C0C-02F8DC19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E7FC0-8EB1-4013-A25A-F701CF79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31AB-B02C-4AB4-9EA1-1286043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2DCED-2AAF-4B09-B8A9-54545B01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7B4A7-16D9-4D3C-B638-9DAE72E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765CD-8451-4681-BD55-E569B4B0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5E3A1-731C-48A2-ACF4-26851835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27A-51AB-4270-AF06-97DAE9D9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583FA-A346-4001-9A73-D8FB25A8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0486D-8DD1-4150-9669-E3BDCFA7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92534-1979-43EE-B00B-4D0C996D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0EC0-62E5-4BA1-BB19-D358E479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04DF4-1F90-4CD1-9949-6B59895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397E1-A7BE-47C0-BE22-75B26C55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17EB-752C-48B7-A32F-03AE3C9E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D0AB-B9DB-47A7-AF97-1033A673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DFCA6-BBDA-4A38-B110-5E86F60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9030-4537-4A2E-B41B-92824061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543-F035-4D37-9DF7-83B66DBD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17BB-BA99-457C-8532-20795BDF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A0DCA-55B1-4386-AE59-95F6CBF3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9C6DB-1B18-451D-844F-A78389D8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BBEC-8009-46A8-B407-5D67DBF7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E1C9A-82B8-44A6-ADC2-1193513E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A4A8-F595-4599-B4A8-531FFBA9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75F2-9680-4407-B8D1-505C808D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41A3-C931-49B6-A90F-8B1EBBEC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512A5-9A84-471D-AF38-2313502D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C2FBE-6050-45FF-92FB-D908CB26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022-43B5-48EF-898C-DEC1E65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C58A3-7089-48FF-A3DD-BE1F793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50E1-E7D9-4CC6-B9AF-22A31558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6E0F0-5942-465E-916F-5662D7E1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1F3E-625B-456A-8B77-432ED635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1F77-0D59-4769-89F6-0857C6C9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08E-B5D9-4066-A7F9-A3CB0163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289C-89D2-4017-A5C1-2092B126854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B97B-C8A1-4798-85D0-DAF9F92606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7403-3C33-4148-B516-4D3317BCE71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94FF-5876-4F3E-8052-2A9C88F0E7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C7B9-13EE-413D-ACD5-F8EA3B071D9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6C74-D529-4E54-B9A4-8FE09B53CDF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9BE9-21FF-450C-AFA5-5DB8E925722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572314"/>
                </a:solidFill>
                <a:latin typeface="Papyrus"/>
              </a:rPr>
              <a:t>Poetry Analysis</a:t>
            </a:r>
            <a:br>
              <a:rPr sz="7500"/>
            </a:br>
            <a:br>
              <a:rPr sz="7500"/>
            </a:br>
            <a:r>
              <a:rPr b="0" lang="en-US" sz="4300" spc="-1" strike="noStrike">
                <a:solidFill>
                  <a:srgbClr val="572314"/>
                </a:solidFill>
                <a:latin typeface="Papyrus"/>
              </a:rPr>
              <a:t>Using the TP-CASTT Metho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6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Examine the title again, this time on an interpretive level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y is the titl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_____?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7: </a:t>
            </a:r>
            <a:r>
              <a:rPr b="1" lang="en-US" sz="3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eme</a:t>
            </a:r>
            <a:br>
              <a:rPr sz="3200"/>
            </a:br>
            <a:r>
              <a:rPr b="0" i="1" lang="en-US" sz="1400" spc="-1" strike="noStrike">
                <a:solidFill>
                  <a:srgbClr val="572314"/>
                </a:solidFill>
                <a:latin typeface="Papyrus"/>
              </a:rPr>
              <a:t>Goal- Determine what the author is saying and wants me to learn and feel after reading the poem.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dentify the theme by recognizing the human experience, motivation, or condition suggested by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s step, within itself, has a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mmarize the p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st the subject (s) of the poem (moving from literal subjects to abstract concepts such as war, death, discove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what the poet is saying about each subject.  Write a complete sentence, making a statement and point about the subject (s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Example of theme explication using the poem 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Janet Walking</a:t>
            </a:r>
            <a:r>
              <a:rPr b="0" lang="ja-JP" sz="2800" spc="-1" strike="noStrike">
                <a:solidFill>
                  <a:srgbClr val="572314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lo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n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anet Walking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Janet awakens one morning and runs to greet her pet chicken only to discover that a bee had stung and killed the bird. The discovery desolates Janet to such a degree that her father cannot comfort he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ubjec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A chil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first experience of death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loss of a pe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 innocenc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heme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 Children become aware of the inevitability of death and ar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transformed by the knowledg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. The death of innocence is inevitab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P CASTT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cronym of steps used to analyze poetry.  The results of TPCASTT can be used to write an ess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TPCASTT process is comprised of 7 steps which should be completed in the order give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does TPCASTT work?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PCASTT method is used to analyze poetry for some reason specified by the analys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nalyst wi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ser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1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tl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Attempt to predict what the poem will be about 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	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nder the title before reading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 to ask yourself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predictions can I make about the po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feelings can I connect to the poem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tit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pyrus"/>
              </a:rPr>
              <a:t>Write your response in a complete sentenc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Step 2: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P</a:t>
            </a:r>
            <a:r>
              <a:rPr b="0" lang="en-US" sz="2900" spc="-1" strike="noStrike">
                <a:solidFill>
                  <a:srgbClr val="572314"/>
                </a:solidFill>
                <a:latin typeface="Gill Sans MT"/>
              </a:rPr>
              <a:t>araphrase</a:t>
            </a:r>
            <a:br>
              <a:rPr sz="29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Translate the poem, line by line, into your own words.</a:t>
            </a:r>
            <a:br>
              <a:rPr sz="14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raphrase the literary meaning/plot of the poem.  A true understanding of the poem must evolve from comprehension or what’s going on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3: Connotation</a:t>
            </a:r>
            <a:br>
              <a:rPr sz="3200"/>
            </a:br>
            <a:r>
              <a:rPr b="0" lang="en-US" sz="1600" spc="-1" strike="noStrike">
                <a:solidFill>
                  <a:srgbClr val="572314"/>
                </a:solidFill>
                <a:latin typeface="Papyrus"/>
              </a:rPr>
              <a:t>Goal- Contemplate the poem for meaning beyond the literal meaning.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08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poetry, connotation indicates that analyst should examine any and all poetic devices, focusing on how such devices contribute to the meaning, the effect, or both of a poem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der imagery, figurative language, symbolism, point of view, and other poetic dec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will link these considerations to the overall meaning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4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A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titude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 Observe both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nd the poet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</a:t>
            </a:r>
            <a:br>
              <a:rPr sz="32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0880" y="1904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ving examined the poem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devices and clues closely, now explore the multiple attitudes that may be present in the poe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re you will describe the tone of the author and/or speaker.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ecall how this is done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ep 5: </a:t>
            </a:r>
            <a:r>
              <a:rPr b="1" lang="en-US" sz="4900" spc="-1" strike="noStrike" u="sng">
                <a:solidFill>
                  <a:srgbClr val="572314"/>
                </a:solidFill>
                <a:uFillTx/>
                <a:latin typeface="Perpetua Titling MT"/>
              </a:rPr>
              <a:t>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fts</a:t>
            </a:r>
            <a:br>
              <a:rPr sz="3200"/>
            </a:b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Goal-Note shifts in the speaker</a:t>
            </a:r>
            <a:r>
              <a:rPr b="0" lang="ja-JP" sz="1400" spc="-1" strike="noStrike">
                <a:solidFill>
                  <a:srgbClr val="572314"/>
                </a:solidFill>
                <a:latin typeface="Papyrus"/>
              </a:rPr>
              <a:t>’</a:t>
            </a:r>
            <a:r>
              <a:rPr b="0" lang="en-US" sz="1400" spc="-1" strike="noStrike">
                <a:solidFill>
                  <a:srgbClr val="572314"/>
                </a:solidFill>
                <a:latin typeface="Papyrus"/>
              </a:rPr>
              <a:t>s attitudes or emotions.</a:t>
            </a:r>
            <a:br>
              <a:rPr sz="1400"/>
            </a:b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arely does a poet begin and end the poetic experience in the same place.  Discovery of a poet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 understanding of an experience is critical to the understanding of the poem.  Trace the feelings of the speaker from the beginning to the end, paying particular attention to the conclu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ook for the following to find shifts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Key words (but, yet, however, although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Punctuation (dashes, periods, colons, ellipsis) 3. Stanza divis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. Changes in line or stanza length or both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. Irony (sometimes irony hides shif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 Effect of structure o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7. Changes in sound (rhyme) may indicate changes in mea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8. Changes in diction (slang to formal language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4:49:25Z</dcterms:created>
  <dc:creator>setup</dc:creator>
  <dc:description/>
  <dc:language>en-US</dc:language>
  <cp:lastModifiedBy>Microsoft Office User</cp:lastModifiedBy>
  <dcterms:modified xsi:type="dcterms:W3CDTF">2017-09-24T17:22:50Z</dcterms:modified>
  <cp:revision>5</cp:revision>
  <dc:subject/>
  <dc:title>Poetry Analysis</dc:title>
</cp:coreProperties>
</file>