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CE8-1851-4B26-A43F-A3308889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A9B-7FD0-458A-9245-E202CC7B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8F1-C7DF-40B9-B900-7485F5EA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A8B-9A2D-4DC4-8414-FECB7B0F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7604-E406-439B-8241-31D4002F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AF00-D383-4AE0-906C-A2B4A122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31A8-9478-40DC-A6CF-61A663B1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1448-4DB7-444C-9E04-28263313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F8A1-1FC5-4561-9AE7-E34647C1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DB2F-4D5D-4E44-89FA-3BF004CC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E51E-0A55-4BBF-BC6E-E91BC5DD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56A-1317-4603-9CA5-6A6D8A21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D388-4E6F-48BD-8EF9-DC78D388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DB00-7AA7-4F91-ABB7-411DC6FD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DDAF-5676-48C5-951D-D00F735E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70C3-7FEB-4571-8C77-1069953D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AFE6-132B-4AE3-BE8B-E48A4D56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E450D-26F1-44D3-9677-E7E515E2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C73A4-0976-490B-A32E-9AC7CD99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A8EA1-DE79-4640-A3FD-7D6C0FCA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ACA2-8CBB-4654-9250-B745F41D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14BA6-7960-4E19-AEAB-32E4B541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923-1D75-40AA-A5C6-5440E0B2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39CB2-9F43-4DF1-B607-E935C9B8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8A2E5-A7FF-4A80-97DC-C88F5B07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6CDC8-A3F5-45C8-9A4F-9815708A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0C26F-20AF-4C3F-A579-A6BB4615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590E6-063A-4B5B-88A6-89BF7129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5AC6-1957-41B7-BC8E-9951B910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4E31C-AEDD-4F0D-8506-AA173AD4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04C01-7E36-436B-AC07-C3BD7BDB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9D6F3-79FC-4CC6-B005-52F29825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71B35-603D-4ACB-B3DE-C33C88E5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4B9-FC32-417D-ADB3-8722A56E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2E938-B88F-4501-9245-8CC43208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439DE-809D-4BC4-80AD-599369BA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78C3C-F9D3-4482-B64E-0A9522D1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54903-B1C8-4D57-A98B-8590F5E3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BF522-8A78-45F3-A6BB-7E454911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55A6E-AA79-4DA2-8FA3-99051CC5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DF83B-DFAC-4F54-89C3-138D470E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806F0-5D4A-4146-9E48-7F271C47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79B89-ED51-4DD4-9B55-04F52A15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4C9DF-953E-4F7C-8F15-9906D7FC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C77-7D74-440A-A4D9-117D5393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AC47A-A007-455D-8EFB-6984AAD2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E6301-AC1E-4DB6-9D79-1FEF9221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52B26-B076-4C2D-B293-CD28DD2D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76B58-1B25-4A49-AAD0-64A7AD8C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8A05E-9166-48B0-979F-71291D3A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3745B-2762-4A89-B618-1B102B68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AAE48-E381-4201-A93B-DE3E42BE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561BC-D96A-4F99-A438-3CE63A4A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8B0B0-F5E2-4A6B-A7DB-6581F759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8B357-5338-4E5A-BDC1-C9CCDAEE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302-72AF-4136-B3BE-36ADEF01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C9423-E032-4E67-8538-BC1BD8AE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C206D-3624-4791-9893-0ABA7918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0D058-D802-49C4-9011-EB2D39CD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95C59-43C3-495C-86DC-E017402A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9F28F-4B65-4409-B61F-C39866B1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20259-AEE2-4B29-BA2C-B52FC0F4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70BB7-C2E3-46B8-BB9D-64C3A89B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D983D-0DF4-4E35-A2B7-3DD05AD4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80C12-6CCD-49CE-8259-D9F03638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2AE8F-564F-4B97-A39A-945DBCB3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6A8-783F-4846-915A-42748F5B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90BFC-4B99-41AC-A544-48A95AFC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06DA0-5253-4102-A7A3-1C0D3D4E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34E50-4304-4A48-9A67-C76D186F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95E7D-B846-43D2-A9C4-93703960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50B8F-72BB-44AF-8D22-921673FD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7B6F8-2D7A-4AB3-9912-ADA94C51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83A01-CBC7-468F-B009-C7AE6E73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58060-53DB-4B9F-85EF-25F24FB4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D5261-1294-4153-AFB4-5CF20FA8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123EE-3D06-4315-8F46-1104749F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9B1-1471-4767-A0D7-9768F321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066B0-14AC-4C91-99DC-CB0D860D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73B2D-EDBC-481C-B88D-701DB9A5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0A098-D916-4C88-998F-0D923D7F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4485D-3CB0-48B2-848F-9796A615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343BA-2172-422F-857B-A7200ACE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859E-70A2-4369-AFF9-19D19A16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B4E5-7FFE-4AFA-A822-F7E6CDF3A26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56B5-DBB1-49A2-8134-E07AF26EA13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0D96-631D-458C-BD10-367D1CAFB57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FDDB-E4A6-4863-935F-7252C905CB7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D3B1-8CFC-4DAA-B0F9-D59556D473C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5BCD-65C2-4048-8777-51A9EF3F675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2E74-01A0-49D6-B4A6-A512C435FF8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72314"/>
                </a:solidFill>
                <a:latin typeface="Papyrus"/>
              </a:rPr>
              <a:t>Poetry Analysis</a:t>
            </a:r>
            <a:br>
              <a:rPr sz="7500"/>
            </a:br>
            <a:br>
              <a:rPr sz="7500"/>
            </a:br>
            <a:r>
              <a:rPr b="0" lang="en-US" sz="4300" spc="-1" strike="noStrike">
                <a:solidFill>
                  <a:srgbClr val="572314"/>
                </a:solidFill>
                <a:latin typeface="Papyrus"/>
              </a:rPr>
              <a:t>Using the TP-CASTT Metho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6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tl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Examine the title again, this time on an interpretive level</a:t>
            </a: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s to ask yourself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y is the titl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_____?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does this mea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7: </a:t>
            </a:r>
            <a:r>
              <a:rPr b="1" lang="en-US" sz="3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eme</a:t>
            </a:r>
            <a:br>
              <a:rPr sz="3200"/>
            </a:br>
            <a:r>
              <a:rPr b="0" i="1" lang="en-US" sz="1400" spc="-1" strike="noStrike">
                <a:solidFill>
                  <a:srgbClr val="572314"/>
                </a:solidFill>
                <a:latin typeface="Papyrus"/>
              </a:rPr>
              <a:t>Goal- Determine what the author is saying and wants me to learn and feel after reading the poem.</a:t>
            </a: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dentify the theme by recognizing the human experience, motivation, or condition suggested by the po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step, within itself, has a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mmarize the plo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 the subject (s) of the poem (moving from literal subjects to abstract concepts such as war, death, discove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 what the poet is saying about each subject.  Write a complete sentence, making a statement and point about the subject (s)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Example of theme explication using the poem </a:t>
            </a:r>
            <a:r>
              <a:rPr b="0" lang="ja-JP" sz="28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Janet Walking</a:t>
            </a:r>
            <a:r>
              <a:rPr b="0" lang="ja-JP" sz="2800" spc="-1" strike="noStrike">
                <a:solidFill>
                  <a:srgbClr val="572314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lo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n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anet Walking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Janet awakens one morning and runs to greet her pet chicken only to discover that a bee had stung and killed the bird. The discovery desolates Janet to such a degree that her father cannot comfort he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ubject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 A child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first experience of death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. loss of a pe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. innocenc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me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 Children become aware of the inevitability of death and ar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transformed by the knowledg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. The death of innocence is inevitabl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is TP CASTT?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 acronym of steps used to analyze poetry.  The results of TPCASTT can be used to write an ess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TPCASTT process is comprised of 7 steps which should be completed in the order giv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w does TPCASTT work?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TPCASTT method is used to analyze poetry for some reason specified by the analys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analyst wi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ser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pr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1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tl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Attempt to predict what the poem will be about 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	</a:t>
            </a: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nder the title before reading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s to ask yourself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predictions can I make about the po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feelings can I connect to the poem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tit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pyrus"/>
              </a:rPr>
              <a:t>Write your response in a complete sente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Step 2: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P</a:t>
            </a: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araphrase</a:t>
            </a:r>
            <a:br>
              <a:rPr sz="29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Translate the poem, line by line, into your own words.</a:t>
            </a:r>
            <a:br>
              <a:rPr sz="14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aphrase the literary meaning/plot of the poem.  A true understanding of the poem must evolve from comprehension or what’s going on in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3: Connotation</a:t>
            </a:r>
            <a:br>
              <a:rPr sz="3200"/>
            </a:br>
            <a:r>
              <a:rPr b="0" lang="en-US" sz="1600" spc="-1" strike="noStrike">
                <a:solidFill>
                  <a:srgbClr val="572314"/>
                </a:solidFill>
                <a:latin typeface="Papyrus"/>
              </a:rPr>
              <a:t>Goal- Contemplate the poem for meaning beyond the literal meaning.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08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poetry, connotation indicates that analyst should examine any and all poetic devices, focusing on how such devices contribute to the meaning, the effect, or both of a poem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der imagery, figurative language, symbolism, point of view, and other poetic deci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will link these considerations to the overall meaning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4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A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titud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Observe both the speaker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nd the poet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ttitude</a:t>
            </a:r>
            <a:br>
              <a:rPr sz="32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0880" y="1904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ving examined the poem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devices and clues closely, now explore the multiple attitudes that may be present in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e you will describe the tone of the author and/or speaker.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Recall how this is done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5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S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ifts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Note shifts in the speaker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ttitudes or emotions.</a:t>
            </a: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rely does a poet begin and end the poetic experience in the same place.  Discovery of a poet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understanding of an experience is critical to the understanding of the poem.  Trace the feelings of the speaker from the beginning to the end, paying particular attention to the conclu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Look for the following to find shifts: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. Key words (but, yet, however, although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 Punctuation (dashes, periods, colons, ellipsis) 3. Stanza divis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4. Changes in line or stanza length or both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. Irony (sometimes irony hides shift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. Effect of structure on mea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7. Changes in sound (rhyme) may indicate changes in mea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8. Changes in diction (slang to formal language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4:49:25Z</dcterms:created>
  <dc:creator>setup</dc:creator>
  <dc:description/>
  <dc:language>en-US</dc:language>
  <cp:lastModifiedBy>Microsoft Office User</cp:lastModifiedBy>
  <dcterms:modified xsi:type="dcterms:W3CDTF">2017-09-24T17:22:50Z</dcterms:modified>
  <cp:revision>5</cp:revision>
  <dc:subject/>
  <dc:title>Poetry Analysis</dc:title>
</cp:coreProperties>
</file>