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53A7-F500-41B1-AD8B-BF2CC95B6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EBAE-CFBC-4C4F-8205-D3003CD5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5E97-1D4D-4770-AA64-681F90283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12A2-030C-4BF1-8164-81D717B52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4377D-1CB4-4227-8294-BAC346DCF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5F8E-E2F8-43C2-A48C-4B26A048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EC72F-14BB-4C34-A2DA-EB1AD858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66190-BF28-4C3D-914F-55C9AFA0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2561-9D39-4F17-9CA2-EDD3D5D6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C0F2-67CB-47D5-A84B-551E42DD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C69FF-0D8D-41BB-9BFE-4D52BA5B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1C4E-5690-4A9B-ACC2-D4383FD9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3332-EDD7-4D3E-8157-7BEE4583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016D-F58B-4F4E-9252-84A2C0AE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334F-F750-41A5-84EB-0E7073F8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66F8C-7529-43FA-B85B-FA954A249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FCF6-CE26-4348-BDD1-97CD5A094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A40F7-30CD-40CF-9216-5B90C21DE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D4F28-A59A-40F5-9CFC-6F12F16D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34658-467D-4EB3-A1D6-421EE118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3BF0D-1B65-4DDD-9A63-7BE82BFC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51EAF-27A0-48A5-96FA-CD19E64C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EAA8-7D33-4520-8880-A39F99BE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20547-EA38-4989-B11F-A05DC70D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840A3-78DF-4FCF-B747-7BC52E01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EB2E9-6823-40C5-B2A5-DA6C6222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F52CE-64EA-434F-8BE7-6E18ADEF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43D64-9658-4E74-890E-8D0226B6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F399D-EC3B-4A46-A7D2-4C64AA1BC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A4A20-8003-4A08-AFA2-961F8B33C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1DA4B-DE02-41BF-AB43-198C227A9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9CFD1-5D9B-4200-BFC4-06E96717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3447E-DBF9-4FF3-9BBB-00FC86A3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1F68-CE52-4E3E-81F7-73FA7B2C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BCA58-FFFD-47FE-88F5-C76BEF95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C185C-2CD8-4AC9-910B-81080D5F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A5984-9D4E-4E35-A68C-7C4DEB02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95541-1CF6-4DF2-A6CB-F9A41796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8E907-6926-42ED-AF1C-8ECD3460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6ADB9-38A2-4B4D-B83E-D8A187E5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2EFC4-2B90-4A43-BA72-167AF27A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5AD25-9712-4FC1-B1A9-629126A82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CE6CD-3FEB-4B1A-B9D9-92CB0A68D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9812C-2E87-401B-B9E2-CCA73A886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9286-4507-43D5-A81F-16D4ED1E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D24F0-C4F2-4C60-A1E7-C7C54FF8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9616C-B963-4A4C-AF2D-BA556E4D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16015-2008-4B77-8984-F7975D60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8ADAE-EA09-4CB1-B149-F805E261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3D5B0-9952-4D69-91F4-75303556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BDA48-9FD7-48F2-B28F-A60D8AFE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3F806-A5A8-4CC9-A220-B2A5983C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AB317-DAC8-43BC-8969-A9BE89A7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16A48-B0EF-4019-81E3-BEB377E8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EDBAF-8FF5-4446-B1DC-624E43EA1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72CF-AC26-458A-B0AA-7171F394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58F2A-CD26-4BC4-AD40-147663CA5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89959-0D39-488B-9F0C-521E13C45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2CD8B-CF5F-4DD5-ABC3-BD2906D6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8C557-18CE-4FE1-9F26-27F78701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D7434-B49B-4ED3-BD42-01A3312E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0BF95-700A-4524-8549-9FFC1A21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144ED-2C65-4A31-B788-71069070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E5C8D-BBB3-41BB-A968-A6A71E77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CF8B6-C3E1-41CD-A2E6-A72DE965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F381B-7E45-4540-A32A-18C2B24C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22E5-F5ED-46AE-A74A-523F645C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3CFA9-CB52-451F-889B-41EA3C3F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E1BAE-5B46-400A-A65B-F72E55369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17456-91A9-43D9-A1A8-9FEA72AB9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78EFC-C9C8-4A4B-B6D0-6A63986BF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4ABD8-5797-4D81-97F4-722C96C0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74D3E-FFFC-4EB6-8C91-5A3F18D0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82146-C3B6-4C3E-9D25-B04916DB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5942A-48D8-45EA-9CA8-8CE61563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B7C4A-6554-459F-B192-CBBDA96A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0775F-213F-4CFA-84AE-0470E913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4058-0D4C-4888-BC32-603A8905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24C0D-DBBD-4687-9C64-86ED4176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501F3-DA72-4562-AA5F-D9B1DA2D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9F81D-20B9-4818-8349-10F92473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4CCC7-5CD4-4646-A724-4934B8B77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CDEEA-05F8-47BF-9379-ACCF48A38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AA28-7784-4C20-8DE7-B2FBC0B4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A71B-2609-4BAA-B6E1-C75DAB1C79E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49C6-75B8-47B2-96BF-D6255A12B25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D38A-E823-474E-AAF3-28675CC6C20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A32C-8454-46DC-9C95-9E740DD80D1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E6C3-DBB4-4A74-849E-F3D19E8E278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1127-0C5C-4FFB-8D90-72031B1EAC1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284D-0701-4854-8740-B0D45CBA136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572314"/>
                </a:solidFill>
                <a:latin typeface="Papyrus"/>
              </a:rPr>
              <a:t>Poetry Analysis</a:t>
            </a:r>
            <a:br>
              <a:rPr sz="7500"/>
            </a:br>
            <a:br>
              <a:rPr sz="7500"/>
            </a:br>
            <a:r>
              <a:rPr b="0" lang="en-US" sz="4300" spc="-1" strike="noStrike">
                <a:solidFill>
                  <a:srgbClr val="572314"/>
                </a:solidFill>
                <a:latin typeface="Papyrus"/>
              </a:rPr>
              <a:t>Using the TP-CASTT Metho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tep 6: </a:t>
            </a:r>
            <a:r>
              <a:rPr b="1" lang="en-US" sz="4900" spc="-1" strike="noStrike" u="sng">
                <a:solidFill>
                  <a:srgbClr val="572314"/>
                </a:solidFill>
                <a:uFillTx/>
                <a:latin typeface="Perpetua Titling MT"/>
              </a:rPr>
              <a:t>T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itle</a:t>
            </a:r>
            <a:br>
              <a:rPr sz="3200"/>
            </a:br>
            <a:r>
              <a:rPr b="0" lang="en-US" sz="1400" spc="-1" strike="noStrike">
                <a:solidFill>
                  <a:srgbClr val="572314"/>
                </a:solidFill>
                <a:latin typeface="Papyrus"/>
              </a:rPr>
              <a:t>Goal-Examine the title again, this time on an interpretive level</a:t>
            </a:r>
            <a:br>
              <a:rPr sz="1400"/>
            </a:br>
            <a:endParaRPr b="0" lang="en-US" sz="1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Questions to ask yourself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y is the title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_____?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does this mean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tep 7: </a:t>
            </a:r>
            <a:r>
              <a:rPr b="1" lang="en-US" sz="3900" spc="-1" strike="noStrike" u="sng">
                <a:solidFill>
                  <a:srgbClr val="572314"/>
                </a:solidFill>
                <a:uFillTx/>
                <a:latin typeface="Perpetua Titling MT"/>
              </a:rPr>
              <a:t>T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heme</a:t>
            </a:r>
            <a:br>
              <a:rPr sz="3200"/>
            </a:br>
            <a:r>
              <a:rPr b="0" i="1" lang="en-US" sz="1400" spc="-1" strike="noStrike">
                <a:solidFill>
                  <a:srgbClr val="572314"/>
                </a:solidFill>
                <a:latin typeface="Papyrus"/>
              </a:rPr>
              <a:t>Goal- Determine what the author is saying and wants me to learn and feel after reading the poem.</a:t>
            </a:r>
            <a:endParaRPr b="0" lang="en-US" sz="1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dentify the theme by recognizing the human experience, motivation, or condition suggested by the poe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s step, within itself, has a system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-533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Gill Sans MT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mmarize the plo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-533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Gill Sans MT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st the subject (s) of the poem (moving from literal subjects to abstract concepts such as war, death, discover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-533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Gill Sans MT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termine what the poet is saying about each subject.  Write a complete sentence, making a statement and point about the subject (s)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2314"/>
                </a:solidFill>
                <a:latin typeface="Gill Sans MT"/>
              </a:rPr>
              <a:t>Example of theme explication using the poem </a:t>
            </a:r>
            <a:r>
              <a:rPr b="0" lang="ja-JP" sz="2800" spc="-1" strike="noStrike">
                <a:solidFill>
                  <a:srgbClr val="572314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572314"/>
                </a:solidFill>
                <a:latin typeface="Gill Sans MT"/>
              </a:rPr>
              <a:t>Janet Walking</a:t>
            </a:r>
            <a:r>
              <a:rPr b="0" lang="ja-JP" sz="2800" spc="-1" strike="noStrike">
                <a:solidFill>
                  <a:srgbClr val="572314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Plot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In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Janet Walking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Janet awakens one morning and runs to greet her pet chicken only to discover that a bee had stung and killed the bird. The discovery desolates Janet to such a degree that her father cannot comfort he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 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ubjects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. A child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 first experience of death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2. loss of a pet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3. innocenc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 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Themes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. Children become aware of the inevitability of death and are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transformed by the knowledge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2. The death of innocence is inevitabl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at is TP CASTT?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 acronym of steps used to analyze poetry.  The results of TPCASTT can be used to write an essa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TPCASTT process is comprised of 7 steps which should be completed in the order giv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ow does TPCASTT work?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TPCASTT method is used to analyze poetry for some reason specified by the analyst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analyst will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bserv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pr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tep 1: </a:t>
            </a:r>
            <a:r>
              <a:rPr b="1" lang="en-US" sz="4900" spc="-1" strike="noStrike" u="sng">
                <a:solidFill>
                  <a:srgbClr val="572314"/>
                </a:solidFill>
                <a:uFillTx/>
                <a:latin typeface="Perpetua Titling MT"/>
              </a:rPr>
              <a:t>T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itle</a:t>
            </a:r>
            <a:br>
              <a:rPr sz="3200"/>
            </a:br>
            <a:r>
              <a:rPr b="0" lang="en-US" sz="1400" spc="-1" strike="noStrike">
                <a:solidFill>
                  <a:srgbClr val="572314"/>
                </a:solidFill>
                <a:latin typeface="Papyrus"/>
              </a:rPr>
              <a:t>Goal- Attempt to predict what the poem will be about </a:t>
            </a:r>
            <a:r>
              <a:rPr b="0" lang="en-US" sz="1400" spc="-1" strike="noStrike">
                <a:solidFill>
                  <a:srgbClr val="572314"/>
                </a:solidFill>
                <a:latin typeface="Papyrus"/>
              </a:rPr>
              <a:t>	</a:t>
            </a:r>
            <a:endParaRPr b="0" lang="en-US" sz="1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2133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onder the title before reading the poem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Questions to ask yourself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predictions can I make about the poe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feelings can I connect to the poem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title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Papyrus"/>
              </a:rPr>
              <a:t>Write your response in a complete sentenc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572314"/>
                </a:solidFill>
                <a:latin typeface="Gill Sans MT"/>
              </a:rPr>
              <a:t>Step 2: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1" lang="en-US" sz="4900" spc="-1" strike="noStrike" u="sng">
                <a:solidFill>
                  <a:srgbClr val="572314"/>
                </a:solidFill>
                <a:uFillTx/>
                <a:latin typeface="Perpetua Titling MT"/>
              </a:rPr>
              <a:t>P</a:t>
            </a:r>
            <a:r>
              <a:rPr b="0" lang="en-US" sz="2900" spc="-1" strike="noStrike">
                <a:solidFill>
                  <a:srgbClr val="572314"/>
                </a:solidFill>
                <a:latin typeface="Gill Sans MT"/>
              </a:rPr>
              <a:t>araphrase</a:t>
            </a:r>
            <a:br>
              <a:rPr sz="2900"/>
            </a:br>
            <a:r>
              <a:rPr b="0" lang="en-US" sz="1400" spc="-1" strike="noStrike">
                <a:solidFill>
                  <a:srgbClr val="572314"/>
                </a:solidFill>
                <a:latin typeface="Papyrus"/>
              </a:rPr>
              <a:t>Goal- Translate the poem, line by line, into your own words.</a:t>
            </a:r>
            <a:br>
              <a:rPr sz="1400"/>
            </a:b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905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raphrase the literary meaning/plot of the poem.  A true understanding of the poem must evolve from comprehension or what’s going on in the poem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tep 3: Connotation</a:t>
            </a:r>
            <a:br>
              <a:rPr sz="3200"/>
            </a:br>
            <a:r>
              <a:rPr b="0" lang="en-US" sz="1600" spc="-1" strike="noStrike">
                <a:solidFill>
                  <a:srgbClr val="572314"/>
                </a:solidFill>
                <a:latin typeface="Papyrus"/>
              </a:rPr>
              <a:t>Goal- Contemplate the poem for meaning beyond the literal meaning.</a:t>
            </a:r>
            <a:br>
              <a:rPr sz="1600"/>
            </a:br>
            <a:endParaRPr b="0" lang="en-US" sz="1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088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poetry, connotation indicates that analyst should examine any and all poetic devices, focusing on how such devices contribute to the meaning, the effect, or both of a poem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sider imagery, figurative language, symbolism, point of view, and other poetic deciv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 will link these considerations to the overall meaning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tep 4: </a:t>
            </a:r>
            <a:r>
              <a:rPr b="1" lang="en-US" sz="4900" spc="-1" strike="noStrike" u="sng">
                <a:solidFill>
                  <a:srgbClr val="572314"/>
                </a:solidFill>
                <a:uFillTx/>
                <a:latin typeface="Perpetua Titling MT"/>
              </a:rPr>
              <a:t>A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titude</a:t>
            </a:r>
            <a:br>
              <a:rPr sz="3200"/>
            </a:br>
            <a:r>
              <a:rPr b="0" lang="en-US" sz="1400" spc="-1" strike="noStrike">
                <a:solidFill>
                  <a:srgbClr val="572314"/>
                </a:solidFill>
                <a:latin typeface="Papyrus"/>
              </a:rPr>
              <a:t>Goal- Observe both the speaker</a:t>
            </a:r>
            <a:r>
              <a:rPr b="0" lang="ja-JP" sz="1400" spc="-1" strike="noStrike">
                <a:solidFill>
                  <a:srgbClr val="572314"/>
                </a:solidFill>
                <a:latin typeface="Papyrus"/>
              </a:rPr>
              <a:t>’</a:t>
            </a:r>
            <a:r>
              <a:rPr b="0" lang="en-US" sz="1400" spc="-1" strike="noStrike">
                <a:solidFill>
                  <a:srgbClr val="572314"/>
                </a:solidFill>
                <a:latin typeface="Papyrus"/>
              </a:rPr>
              <a:t>s and the poet</a:t>
            </a:r>
            <a:r>
              <a:rPr b="0" lang="ja-JP" sz="1400" spc="-1" strike="noStrike">
                <a:solidFill>
                  <a:srgbClr val="572314"/>
                </a:solidFill>
                <a:latin typeface="Papyrus"/>
              </a:rPr>
              <a:t>’</a:t>
            </a:r>
            <a:r>
              <a:rPr b="0" lang="en-US" sz="1400" spc="-1" strike="noStrike">
                <a:solidFill>
                  <a:srgbClr val="572314"/>
                </a:solidFill>
                <a:latin typeface="Papyrus"/>
              </a:rPr>
              <a:t>s attitude</a:t>
            </a:r>
            <a:br>
              <a:rPr sz="3200"/>
            </a:br>
            <a:endParaRPr b="0" lang="en-US" sz="1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0880" y="19047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aving examined the poem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 devices and clues closely, now explore the multiple attitudes that may be present in the poem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re you will describe the tone of the author and/or speaker.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Recall how this is done…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tep 5: </a:t>
            </a:r>
            <a:r>
              <a:rPr b="1" lang="en-US" sz="4900" spc="-1" strike="noStrike" u="sng">
                <a:solidFill>
                  <a:srgbClr val="572314"/>
                </a:solidFill>
                <a:uFillTx/>
                <a:latin typeface="Perpetua Titling MT"/>
              </a:rPr>
              <a:t>S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hifts</a:t>
            </a:r>
            <a:br>
              <a:rPr sz="3200"/>
            </a:br>
            <a:r>
              <a:rPr b="0" lang="en-US" sz="1400" spc="-1" strike="noStrike">
                <a:solidFill>
                  <a:srgbClr val="572314"/>
                </a:solidFill>
                <a:latin typeface="Papyrus"/>
              </a:rPr>
              <a:t>Goal-Note shifts in the speaker</a:t>
            </a:r>
            <a:r>
              <a:rPr b="0" lang="ja-JP" sz="1400" spc="-1" strike="noStrike">
                <a:solidFill>
                  <a:srgbClr val="572314"/>
                </a:solidFill>
                <a:latin typeface="Papyrus"/>
              </a:rPr>
              <a:t>’</a:t>
            </a:r>
            <a:r>
              <a:rPr b="0" lang="en-US" sz="1400" spc="-1" strike="noStrike">
                <a:solidFill>
                  <a:srgbClr val="572314"/>
                </a:solidFill>
                <a:latin typeface="Papyrus"/>
              </a:rPr>
              <a:t>s attitudes or emotions.</a:t>
            </a:r>
            <a:br>
              <a:rPr sz="1400"/>
            </a:br>
            <a:endParaRPr b="0" lang="en-US" sz="1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arely does a poet begin and end the poetic experience in the same place.  Discovery of a poet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 understanding of an experience is critical to the understanding of the poem.  Trace the feelings of the speaker from the beginning to the end, paying particular attention to the conclus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Look for the following to find shifts: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. Key words (but, yet, however, although)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 Punctuation (dashes, periods, colons, ellipsis) 3. Stanza division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4. Changes in line or stanza length or both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5. Irony (sometimes irony hides shift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6. Effect of structure on meaning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7. Changes in sound (rhyme) may indicate changes in meaning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8. Changes in diction (slang to formal language)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14:49:25Z</dcterms:created>
  <dc:creator>setup</dc:creator>
  <dc:description/>
  <dc:language>en-US</dc:language>
  <cp:lastModifiedBy>Microsoft Office User</cp:lastModifiedBy>
  <dcterms:modified xsi:type="dcterms:W3CDTF">2017-09-24T17:22:50Z</dcterms:modified>
  <cp:revision>5</cp:revision>
  <dc:subject/>
  <dc:title>Poetry Analysis</dc:title>
</cp:coreProperties>
</file>